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F98-2D31-4C19-A613-E1E66E1F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69A-1F3B-4A88-80AE-1799923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04D-1852-4167-8AE3-A85D6745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F0D-A299-413B-B446-C0824E3B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BF3-DF29-462E-A6B3-FD1699E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37D-65E4-40F3-BFA1-041505C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372-CF56-44F5-857E-CB3DFA3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804-89CA-4732-BB45-4F477EF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125-5C52-4EB3-8091-34FABC2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4C0-7FDE-4E1C-9F01-DEF495D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EA5-4071-450D-BADD-45A4B57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00C-005F-4C84-BEDD-CBA8CD3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5F8-5A1D-4049-AED0-952493EB12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19051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324480" y="152280"/>
            <a:ext cx="175284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13160" y="152280"/>
            <a:ext cx="184464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80880" y="2514600"/>
            <a:ext cx="1495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senta:  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676520"/>
            <a:ext cx="25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iceministerio de Desarrollo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52388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cia Suiza para el Desarrollo y la Co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160020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omoción al Desarrollo Económico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638680"/>
            <a:ext cx="7197480" cy="916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Paz: Ecuador No 2186 piso 2- telefax 24124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-mail: pader@ceibo.entelnet.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ttp://www.municipio-productivo-pad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200400"/>
            <a:ext cx="7696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nicipio Productivo con Equidad de Géner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4495680"/>
            <a:ext cx="8153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Primer Curso: Municipio Productivo y Promoción Económica</a:t>
            </a:r>
            <a:endParaRPr b="0" lang="en-US" sz="32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590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449280"/>
                <a:tab algn="l" pos="898560"/>
                <a:tab algn="l" pos="490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9280"/>
                <a:tab algn="l" pos="898560"/>
                <a:tab algn="l" pos="490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276720"/>
            <a:ext cx="1143000" cy="8380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 l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196200">
            <a:off x="971640" y="4552920"/>
            <a:ext cx="799920" cy="457200"/>
          </a:xfrm>
          <a:custGeom>
            <a:avLst/>
            <a:gdLst>
              <a:gd name="textAreaLeft" fmla="*/ 140040 w 799920"/>
              <a:gd name="textAreaRight" fmla="*/ 579960 w 7999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56800">
            <a:off x="1143000" y="2133360"/>
            <a:ext cx="685800" cy="5713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1905120"/>
            <a:ext cx="175248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vi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905120"/>
            <a:ext cx="16002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 Al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05120"/>
            <a:ext cx="16002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foque de Gé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724280"/>
            <a:ext cx="16002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an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724280"/>
            <a:ext cx="16002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foqu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é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724280"/>
            <a:ext cx="160020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xce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1600200" cy="8380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528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1360" y="533520"/>
            <a:ext cx="703116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Lucha Contra la Pobreza y el Enfoque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981080"/>
            <a:ext cx="8153640" cy="4313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1.- Qué actividades productivas desempeñan las muje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2.- A qué rubro corresponden estas activid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3.- Qué actividades desempeña en esta actividad producti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4.- Esta actividad productiva esta orientad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7200"/>
            <a:ext cx="7848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guntas para determinar si es posible y oportuno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adyuvar a la generación de ganancias de las mujeres a través del Municipio Produc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685800"/>
            <a:ext cx="8153280" cy="549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lo autoconsumo familiar (actividad tradicional como la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gricul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lo generación de ingresos (venta, comercializ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tividad tradicional  / actividad innov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utoconsumo familiar y ganancia de ingresos con la m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tividad produ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utoconsumo familiar y desempeño de otra actividad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oductiva que me permite generar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590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Q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33520"/>
            <a:ext cx="7620120" cy="629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5.- Es posible realizar tanto actividades productivas de autoconsumo como de generación de ingresos sin que esto provoque el descuido de alguna de ellas o conlleve problemas familiares/so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, ¿Por qué? (Probl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, ¿Cómo? (Estrateg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6.- ¿Cómo podemos apoyar a  que las mujeres generen ingresos a través de sus actividades productivas (sean estas de autoconsumo o innovadoras), en función al enfoque de gén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457200"/>
            <a:ext cx="7010280" cy="16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Qué entendemos por Municipio Productivo con Equidad de Gén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057400"/>
            <a:ext cx="7467840" cy="438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 Municipio Productivo con Equidad de Géner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s aquel en el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ual hombres y mujeres tienen iguales oportunidad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y 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pacidades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 obtener un empleo digno y un ingreso que les permita satisfacer sus necesidades y mejorar sus condiciones de vid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sta mejora en la calidad de vida esta relacionada con el incremento de los niveles de inversión privada y pública, destinadas a aprovechar el potencial del municipio y las oportunidade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09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¿Qué necesitamos para construir un Municipio Productivo con Equidad de Gén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1814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1728720" cy="1833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1992600" cy="170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304920"/>
            <a:ext cx="8077320" cy="16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rte 4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ómo Construir un Mucipio Productivo con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57200"/>
            <a:ext cx="8077320" cy="105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mbitos de acción para la equidad en OPORTUN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057400"/>
            <a:ext cx="7162560" cy="356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líticas, normas, estrategias, proyect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s de equidad de géner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moción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pectos leg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5680" y="7621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7800" y="457200"/>
            <a:ext cx="746856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mbitos de acción para la equidad en CAPA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5410440" cy="33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uto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lidad organi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pacidad en la produ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pacidad de negoc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lidad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04920"/>
            <a:ext cx="769608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promover la equidad en estas capacidades y oportunidades entre hombres y mujeres a través del Enfoque de Municipio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523880"/>
          <a:ext cx="75438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543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" y="42372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" y="5119560"/>
            <a:ext cx="914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" y="806148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57200"/>
            <a:ext cx="7467840" cy="135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través de seis paso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8288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las mujeres productoras en la Construcción de un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sión Compartid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l Desarrollo Económico del Municipi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1240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las mujeres en espacios de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rtación Público-Privad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la Promoción Económica del Municipi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464832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.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mpulsando que el Gobierno Municipal asuma u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promotor en la equidad de géner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n el marco de la Promoción Económica Muni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666880"/>
            <a:ext cx="7543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1828800" cy="1771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117504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514600" cy="243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5880" y="5257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343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76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ferencia entre Género y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"/>
            <a:ext cx="5943600" cy="123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Parte 1: Marco Conceptual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" y="-1562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76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Impulsando que el Gobierno Municipal tenga l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dad de Gest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empujar acciones de equidad de Género en el marco de la Promoción Económica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97180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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ogrando que los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gentes Económicos Privados asuman un rol protagón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n la operativización de la equidad de género en el marco de la Promoción Econ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495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mujeres productoras en la elaboración de un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 de Responsabilidad Compartid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la Promoción Económica e incorporando las demandas y potencialidades  de las mujeres productor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04920"/>
            <a:ext cx="7467480" cy="135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través de seis paso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" y="-1562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28600"/>
          <a:ext cx="8610480" cy="6386400"/>
        </p:xfrm>
        <a:graphic>
          <a:graphicData uri="http://schemas.openxmlformats.org/drawingml/2006/table">
            <a:tbl>
              <a:tblPr/>
              <a:tblGrid>
                <a:gridCol w="1828800"/>
                <a:gridCol w="762120"/>
                <a:gridCol w="761760"/>
                <a:gridCol w="685800"/>
                <a:gridCol w="304920"/>
                <a:gridCol w="304920"/>
                <a:gridCol w="304560"/>
                <a:gridCol w="304920"/>
                <a:gridCol w="1066680"/>
                <a:gridCol w="563760"/>
                <a:gridCol w="627120"/>
                <a:gridCol w="10951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 compar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L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 del G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de Gestion del 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 de los A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 - P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nte en Cap. Y Opo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esti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dad Organiz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de Negoci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Represen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ORTUN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icas y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g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162600" cy="316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1371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04920"/>
            <a:ext cx="6705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Construcción de los roles - ident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76520"/>
            <a:ext cx="41907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ojas: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n las práctica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n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Son las institucione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aíces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Son las actitudes y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5812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9528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676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28600"/>
            <a:ext cx="47246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Género y División Sexual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00200"/>
            <a:ext cx="8001000" cy="27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Reproductivo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Rol Pro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de Gestión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89064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23200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29000" y="4572000"/>
            <a:ext cx="182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" y="-10382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jemplo:  Producción de fibra de ll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143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380880"/>
            <a:ext cx="6248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Valorización de roles según la división sexual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905120"/>
            <a:ext cx="7315200" cy="4321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uien lo hace? (Hombre-Muj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argo-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Remu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Hora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4572000"/>
            <a:ext cx="15238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133720"/>
            <a:ext cx="571680" cy="228600"/>
          </a:xfrm>
          <a:prstGeom prst="rightArrow">
            <a:avLst>
              <a:gd name="adj1" fmla="val 50000"/>
              <a:gd name="adj2" fmla="val 62520"/>
            </a:avLst>
          </a:prstGeom>
          <a:solidFill>
            <a:srgbClr val="cce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800600"/>
            <a:ext cx="571320" cy="228600"/>
          </a:xfrm>
          <a:prstGeom prst="rightArrow">
            <a:avLst>
              <a:gd name="adj1" fmla="val 50000"/>
              <a:gd name="adj2" fmla="val 62480"/>
            </a:avLst>
          </a:prstGeom>
          <a:solidFill>
            <a:srgbClr val="cce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358128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n términos absolutos se refiere al bienestar material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267080"/>
            <a:ext cx="350496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iene que ver con la estructura del poder al interior de una organización o grupo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200400"/>
            <a:ext cx="1447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2767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1600200"/>
            <a:ext cx="571320" cy="571680"/>
          </a:xfrm>
          <a:custGeom>
            <a:avLst/>
            <a:gdLst>
              <a:gd name="textAreaLeft" fmla="*/ 99720 w 571320"/>
              <a:gd name="textAreaRight" fmla="*/ 414360 w 57132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724280"/>
            <a:ext cx="571680" cy="571680"/>
          </a:xfrm>
          <a:custGeom>
            <a:avLst/>
            <a:gdLst>
              <a:gd name="textAreaLeft" fmla="*/ 100080 w 571680"/>
              <a:gd name="textAreaRight" fmla="*/ 414720 w 5716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81532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ituación de la mujer en el desarrollo económico ru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81080"/>
            <a:ext cx="152388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304920"/>
            <a:ext cx="5867640" cy="132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efinición de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527120"/>
            <a:ext cx="5181480" cy="503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 tratados de forma equitativa  quiere decir que cada uno recibe sin discriminaciones lo que le corresponde, de acuerdo a sus necesidades y requerimiento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quidad de Géner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mplica la aplicación de políticas, programas y proyectos de acción afirmativa a favor de las mujeres, para mejorar su situación y poder de esta manera impulsar una verdadera igualdad entre hombres y muj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5760" y="3430440"/>
            <a:ext cx="6480" cy="16200"/>
          </a:xfrm>
          <a:custGeom>
            <a:avLst/>
            <a:gdLst/>
            <a:ahLst/>
            <a:rect l="l" t="t" r="r" b="b"/>
            <a:pathLst>
              <a:path w="8" h="21">
                <a:moveTo>
                  <a:pt x="8" y="8"/>
                </a:moveTo>
                <a:lnTo>
                  <a:pt x="8" y="12"/>
                </a:lnTo>
                <a:lnTo>
                  <a:pt x="7" y="15"/>
                </a:lnTo>
                <a:lnTo>
                  <a:pt x="5" y="19"/>
                </a:lnTo>
                <a:lnTo>
                  <a:pt x="2" y="21"/>
                </a:lnTo>
                <a:lnTo>
                  <a:pt x="0" y="21"/>
                </a:lnTo>
                <a:lnTo>
                  <a:pt x="0" y="0"/>
                </a:lnTo>
                <a:lnTo>
                  <a:pt x="4" y="0"/>
                </a:lnTo>
                <a:lnTo>
                  <a:pt x="6" y="1"/>
                </a:lnTo>
                <a:lnTo>
                  <a:pt x="8" y="5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6160" y="2789280"/>
            <a:ext cx="41400" cy="2844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6"/>
                </a:moveTo>
                <a:lnTo>
                  <a:pt x="45" y="6"/>
                </a:lnTo>
                <a:lnTo>
                  <a:pt x="37" y="7"/>
                </a:lnTo>
                <a:lnTo>
                  <a:pt x="30" y="10"/>
                </a:lnTo>
                <a:lnTo>
                  <a:pt x="23" y="14"/>
                </a:lnTo>
                <a:lnTo>
                  <a:pt x="17" y="17"/>
                </a:lnTo>
                <a:lnTo>
                  <a:pt x="11" y="23"/>
                </a:lnTo>
                <a:lnTo>
                  <a:pt x="5" y="29"/>
                </a:lnTo>
                <a:lnTo>
                  <a:pt x="0" y="36"/>
                </a:lnTo>
                <a:lnTo>
                  <a:pt x="1" y="25"/>
                </a:lnTo>
                <a:lnTo>
                  <a:pt x="4" y="17"/>
                </a:lnTo>
                <a:lnTo>
                  <a:pt x="11" y="9"/>
                </a:lnTo>
                <a:lnTo>
                  <a:pt x="22" y="3"/>
                </a:lnTo>
                <a:lnTo>
                  <a:pt x="30" y="2"/>
                </a:lnTo>
                <a:lnTo>
                  <a:pt x="39" y="0"/>
                </a:lnTo>
                <a:lnTo>
                  <a:pt x="48" y="1"/>
                </a:lnTo>
                <a:lnTo>
                  <a:pt x="5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2880" y="2617920"/>
            <a:ext cx="73080" cy="23760"/>
          </a:xfrm>
          <a:custGeom>
            <a:avLst/>
            <a:gdLst/>
            <a:ahLst/>
            <a:rect l="l" t="t" r="r" b="b"/>
            <a:pathLst>
              <a:path w="91" h="31">
                <a:moveTo>
                  <a:pt x="91" y="9"/>
                </a:moveTo>
                <a:lnTo>
                  <a:pt x="81" y="9"/>
                </a:lnTo>
                <a:lnTo>
                  <a:pt x="70" y="9"/>
                </a:lnTo>
                <a:lnTo>
                  <a:pt x="59" y="11"/>
                </a:lnTo>
                <a:lnTo>
                  <a:pt x="48" y="12"/>
                </a:lnTo>
                <a:lnTo>
                  <a:pt x="38" y="14"/>
                </a:lnTo>
                <a:lnTo>
                  <a:pt x="30" y="16"/>
                </a:lnTo>
                <a:lnTo>
                  <a:pt x="23" y="20"/>
                </a:lnTo>
                <a:lnTo>
                  <a:pt x="19" y="24"/>
                </a:lnTo>
                <a:lnTo>
                  <a:pt x="13" y="31"/>
                </a:lnTo>
                <a:lnTo>
                  <a:pt x="0" y="23"/>
                </a:lnTo>
                <a:lnTo>
                  <a:pt x="3" y="15"/>
                </a:lnTo>
                <a:lnTo>
                  <a:pt x="13" y="8"/>
                </a:lnTo>
                <a:lnTo>
                  <a:pt x="26" y="4"/>
                </a:lnTo>
                <a:lnTo>
                  <a:pt x="41" y="0"/>
                </a:lnTo>
                <a:lnTo>
                  <a:pt x="57" y="0"/>
                </a:lnTo>
                <a:lnTo>
                  <a:pt x="72" y="1"/>
                </a:lnTo>
                <a:lnTo>
                  <a:pt x="84" y="4"/>
                </a:lnTo>
                <a:lnTo>
                  <a:pt x="91" y="9"/>
                </a:lnTo>
                <a:close/>
              </a:path>
            </a:pathLst>
          </a:custGeom>
          <a:solidFill>
            <a:srgbClr val="af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5840" y="3287880"/>
            <a:ext cx="12600" cy="52200"/>
          </a:xfrm>
          <a:custGeom>
            <a:avLst/>
            <a:gdLst/>
            <a:ahLst/>
            <a:rect l="l" t="t" r="r" b="b"/>
            <a:pathLst>
              <a:path w="16" h="65">
                <a:moveTo>
                  <a:pt x="11" y="60"/>
                </a:moveTo>
                <a:lnTo>
                  <a:pt x="8" y="61"/>
                </a:lnTo>
                <a:lnTo>
                  <a:pt x="7" y="62"/>
                </a:lnTo>
                <a:lnTo>
                  <a:pt x="5" y="64"/>
                </a:lnTo>
                <a:lnTo>
                  <a:pt x="4" y="65"/>
                </a:lnTo>
                <a:lnTo>
                  <a:pt x="8" y="50"/>
                </a:lnTo>
                <a:lnTo>
                  <a:pt x="11" y="35"/>
                </a:lnTo>
                <a:lnTo>
                  <a:pt x="10" y="21"/>
                </a:lnTo>
                <a:lnTo>
                  <a:pt x="4" y="9"/>
                </a:lnTo>
                <a:lnTo>
                  <a:pt x="3" y="5"/>
                </a:ln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  <a:lnTo>
                  <a:pt x="13" y="10"/>
                </a:lnTo>
                <a:lnTo>
                  <a:pt x="16" y="23"/>
                </a:lnTo>
                <a:lnTo>
                  <a:pt x="15" y="40"/>
                </a:lnTo>
                <a:lnTo>
                  <a:pt x="11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70480" y="3954600"/>
            <a:ext cx="36720" cy="50760"/>
          </a:xfrm>
          <a:custGeom>
            <a:avLst/>
            <a:gdLst/>
            <a:ahLst/>
            <a:rect l="l" t="t" r="r" b="b"/>
            <a:pathLst>
              <a:path w="47" h="64">
                <a:moveTo>
                  <a:pt x="47" y="0"/>
                </a:moveTo>
                <a:lnTo>
                  <a:pt x="43" y="10"/>
                </a:lnTo>
                <a:lnTo>
                  <a:pt x="40" y="18"/>
                </a:lnTo>
                <a:lnTo>
                  <a:pt x="35" y="27"/>
                </a:lnTo>
                <a:lnTo>
                  <a:pt x="31" y="35"/>
                </a:lnTo>
                <a:lnTo>
                  <a:pt x="25" y="43"/>
                </a:lnTo>
                <a:lnTo>
                  <a:pt x="19" y="50"/>
                </a:lnTo>
                <a:lnTo>
                  <a:pt x="12" y="57"/>
                </a:lnTo>
                <a:lnTo>
                  <a:pt x="5" y="64"/>
                </a:lnTo>
                <a:lnTo>
                  <a:pt x="0" y="9"/>
                </a:lnTo>
                <a:lnTo>
                  <a:pt x="5" y="6"/>
                </a:lnTo>
                <a:lnTo>
                  <a:pt x="11" y="4"/>
                </a:lnTo>
                <a:lnTo>
                  <a:pt x="18" y="2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2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28600"/>
            <a:ext cx="739116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Parte 2: Marco Politico, Normativo e Institucional de la Equidad de Género en la Gestión Muni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676520"/>
            <a:ext cx="8305920" cy="5640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rco Político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rco Normativo.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Participación 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Partidos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ódigo Elec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rma de Planificación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457200"/>
            <a:ext cx="7239240" cy="16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e 3: Antecedentes para construir un Municipio Productivo con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09680"/>
            <a:ext cx="8001000" cy="3852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timos de un Contexto Ge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eminización de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ponemos como respuesta alternativa a é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construcción de un Municipio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ivo...        con Equidad de Géner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1:29:43Z</dcterms:created>
  <dc:creator>Consultor5</dc:creator>
  <dc:description/>
  <dc:language>en-US</dc:language>
  <cp:lastModifiedBy>Consultor5</cp:lastModifiedBy>
  <dcterms:modified xsi:type="dcterms:W3CDTF">2002-04-01T17:13:34Z</dcterms:modified>
  <cp:revision>54</cp:revision>
  <dc:subject/>
  <dc:title>Presentación de PowerPoint</dc:title>
</cp:coreProperties>
</file>